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320-57FD-4A43-924F-1D3D8D0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5A-D679-41A8-92FB-B93D35F5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906-248E-4D95-88D7-3A50745C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5F45-EBDF-45A4-A4FB-8C764B8BE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C144-429D-4B75-B52F-310394D5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E60-4192-4FB6-A555-A2A82D47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7611-4ADA-4FDA-B243-280553ED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CA7-54CC-484A-BC02-09DA7F3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AC9-2FF3-4373-97BB-9907B671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8AD-53AC-41DE-B00E-B1DF779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706-B603-4862-90F4-29075038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D8F-1E84-4A81-840F-E25C28F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12E-A75B-47D3-B82E-52C3061F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images/0871207931/ref=dp_image_0?ie=UTF8&amp;n=283155&amp;s=book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 Management that Work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J. Marz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791320" y="5410080"/>
            <a:ext cx="2895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ttne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elphi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 7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lassroom Management That Works: Research-Based Strategies for Every 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7432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Effective teachers appear to be effecti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with students of all achievement level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regardless of the levels of heterogeneity i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their classe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. Paul Wright, Sandra Horn, and William Sanders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of a School vs. a Teacher on Student Entering at 5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centile (Ma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228600" y="1752480"/>
          <a:ext cx="821196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211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6"/>
          <p:cNvSpPr/>
          <p:nvPr/>
        </p:nvSpPr>
        <p:spPr>
          <a:xfrm rot="16200000">
            <a:off x="-1530000" y="3739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ile Rank After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 Major Roles of Effective Teach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wise choices about the most effective instructional strategies to empl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classroom curriculum to facilitate studen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effective use of classroom management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No single role by itself is sufficient t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guarantee student learning, but ta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one out of the mix and you probabl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guarantee that  students will hav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reestyle Script"/>
              </a:rPr>
              <a:t>difficulty learning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Meta-Analysis is quantitatively combining the resul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rom a number of studies… and the meta-analysi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research over the past 30 years indicates th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assroom management is one of the critical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ingredients of effective teaching – first in terms o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its impact on student achieveme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30920" indent="-16560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zano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Components of Effective Classroom Manage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iplinary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-Student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al 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“withitness” and emotional obje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33520" y="825480"/>
          <a:ext cx="8229600" cy="5735520"/>
        </p:xfrm>
        <a:graphic>
          <a:graphicData uri="http://schemas.openxmlformats.org/drawingml/2006/table">
            <a:tbl>
              <a:tblPr/>
              <a:tblGrid>
                <a:gridCol w="4572000"/>
                <a:gridCol w="36576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 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% Decrease in Disrupti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les and Procedu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63 (28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iplinary Interven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ishment and Reinforcem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70 (33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-Student Relationshi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69 (31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al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94 (40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a8486"/>
                        </a:gs>
                        <a:gs pos="100000">
                          <a:srgbClr val="b8e3e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9:47:49Z</dcterms:created>
  <dc:creator>setup</dc:creator>
  <dc:description/>
  <dc:language>en-US</dc:language>
  <cp:lastModifiedBy>Adelphi User</cp:lastModifiedBy>
  <dcterms:modified xsi:type="dcterms:W3CDTF">2010-06-16T21:32:23Z</dcterms:modified>
  <cp:revision>9</cp:revision>
  <dc:subject/>
  <dc:title>Slide 1</dc:title>
</cp:coreProperties>
</file>